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256-43A2-4D28-BD0B-CB2E4FD4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FA1-AEE1-480D-B571-0EFEB67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8AC-DE60-4506-B9D2-2ED47225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F54-9C70-431F-B7E2-A39CF210A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CB69-BD0D-47A9-9D64-B5231D57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89A-76A7-4214-B6AB-091C4E67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CD4-7E43-4A3B-A4E3-C11D601F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516-5A00-4A52-AD0D-28D59F92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783-3D51-4FED-8F0D-5AEB85F4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8FE-C273-4156-85CE-C518A531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2F55-0EBF-4163-ABF7-67DC086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471-CCB1-4DFE-AE7F-AA05BCDE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8950-6151-4247-8456-B5D46EA0F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at_of_Arms_of_Germany.svg" descr=""/>
          <p:cNvPicPr/>
          <p:nvPr/>
        </p:nvPicPr>
        <p:blipFill>
          <a:blip r:embed="rId1"/>
          <a:stretch/>
        </p:blipFill>
        <p:spPr>
          <a:xfrm>
            <a:off x="1938240" y="380880"/>
            <a:ext cx="4980240" cy="6472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469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hen nach Deutsch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168" t="10102" r="1515" b="4034"/>
          <a:stretch/>
        </p:blipFill>
        <p:spPr>
          <a:xfrm>
            <a:off x="685800" y="990720"/>
            <a:ext cx="739152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68" t="10102" r="1515" b="2351"/>
          <a:stretch/>
        </p:blipFill>
        <p:spPr>
          <a:xfrm>
            <a:off x="380880" y="1143000"/>
            <a:ext cx="8077320" cy="5753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ahre nach Duesseldorf mit der Flugze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4008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-1175" t="10102" r="1515" b="2351"/>
          <a:stretch/>
        </p:blipFill>
        <p:spPr>
          <a:xfrm>
            <a:off x="457200" y="1523880"/>
            <a:ext cx="7924680" cy="5569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ist in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eldorf.Die hotel ist so 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ach i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uche Keil ich gehe ins Museu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10102" r="1515" b="2351"/>
          <a:stretch/>
        </p:blipFill>
        <p:spPr>
          <a:xfrm>
            <a:off x="762120" y="1523880"/>
            <a:ext cx="761976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68" t="10102" r="1515" b="2351"/>
          <a:stretch/>
        </p:blipFill>
        <p:spPr>
          <a:xfrm>
            <a:off x="304920" y="685800"/>
            <a:ext cx="838188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ahre nach Kiel von Düsseldor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1346" t="10102" r="1683" b="2351"/>
          <a:stretch/>
        </p:blipFill>
        <p:spPr>
          <a:xfrm>
            <a:off x="685800" y="1066680"/>
            <a:ext cx="762012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hn fahren ist die beste fur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  <a:ea typeface="Arial"/>
              </a:rPr>
              <a:t>Studente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10102" r="1515" b="5717"/>
          <a:stretch/>
        </p:blipFill>
        <p:spPr>
          <a:xfrm>
            <a:off x="76320" y="1219320"/>
            <a:ext cx="8391240" cy="5736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416400" y="2514600"/>
            <a:ext cx="1955880" cy="3352680"/>
          </a:xfrm>
          <a:custGeom>
            <a:avLst/>
            <a:gdLst/>
            <a:ahLst/>
            <a:rect l="l" t="t" r="r" b="b"/>
            <a:pathLst>
              <a:path w="1232" h="2112">
                <a:moveTo>
                  <a:pt x="8" y="2112"/>
                </a:moveTo>
                <a:cubicBezTo>
                  <a:pt x="4" y="2076"/>
                  <a:pt x="0" y="2040"/>
                  <a:pt x="8" y="2016"/>
                </a:cubicBezTo>
                <a:cubicBezTo>
                  <a:pt x="16" y="1992"/>
                  <a:pt x="40" y="1984"/>
                  <a:pt x="56" y="1968"/>
                </a:cubicBezTo>
                <a:cubicBezTo>
                  <a:pt x="72" y="1952"/>
                  <a:pt x="80" y="1944"/>
                  <a:pt x="104" y="1920"/>
                </a:cubicBezTo>
                <a:cubicBezTo>
                  <a:pt x="128" y="1896"/>
                  <a:pt x="168" y="1848"/>
                  <a:pt x="200" y="1824"/>
                </a:cubicBezTo>
                <a:cubicBezTo>
                  <a:pt x="232" y="1800"/>
                  <a:pt x="280" y="1808"/>
                  <a:pt x="296" y="1776"/>
                </a:cubicBezTo>
                <a:cubicBezTo>
                  <a:pt x="312" y="1744"/>
                  <a:pt x="296" y="1688"/>
                  <a:pt x="296" y="1632"/>
                </a:cubicBezTo>
                <a:cubicBezTo>
                  <a:pt x="296" y="1576"/>
                  <a:pt x="272" y="1488"/>
                  <a:pt x="296" y="1440"/>
                </a:cubicBezTo>
                <a:cubicBezTo>
                  <a:pt x="320" y="1392"/>
                  <a:pt x="408" y="1392"/>
                  <a:pt x="440" y="1344"/>
                </a:cubicBezTo>
                <a:cubicBezTo>
                  <a:pt x="472" y="1296"/>
                  <a:pt x="504" y="1200"/>
                  <a:pt x="488" y="1152"/>
                </a:cubicBezTo>
                <a:cubicBezTo>
                  <a:pt x="472" y="1104"/>
                  <a:pt x="360" y="1120"/>
                  <a:pt x="344" y="1056"/>
                </a:cubicBezTo>
                <a:cubicBezTo>
                  <a:pt x="328" y="992"/>
                  <a:pt x="352" y="832"/>
                  <a:pt x="392" y="768"/>
                </a:cubicBezTo>
                <a:cubicBezTo>
                  <a:pt x="432" y="704"/>
                  <a:pt x="520" y="712"/>
                  <a:pt x="584" y="672"/>
                </a:cubicBezTo>
                <a:cubicBezTo>
                  <a:pt x="648" y="632"/>
                  <a:pt x="736" y="568"/>
                  <a:pt x="776" y="528"/>
                </a:cubicBezTo>
                <a:cubicBezTo>
                  <a:pt x="816" y="488"/>
                  <a:pt x="808" y="464"/>
                  <a:pt x="824" y="432"/>
                </a:cubicBezTo>
                <a:cubicBezTo>
                  <a:pt x="840" y="400"/>
                  <a:pt x="832" y="376"/>
                  <a:pt x="872" y="336"/>
                </a:cubicBezTo>
                <a:cubicBezTo>
                  <a:pt x="912" y="296"/>
                  <a:pt x="1008" y="240"/>
                  <a:pt x="1064" y="192"/>
                </a:cubicBezTo>
                <a:cubicBezTo>
                  <a:pt x="1120" y="144"/>
                  <a:pt x="1184" y="80"/>
                  <a:pt x="1208" y="48"/>
                </a:cubicBezTo>
                <a:cubicBezTo>
                  <a:pt x="1232" y="16"/>
                  <a:pt x="1208" y="8"/>
                  <a:pt x="120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 ins Hotel. Maritim hotel ist in Keil.Die hotel hat In shornes hallenb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8" t="10102" r="1515" b="4034"/>
          <a:stretch/>
        </p:blipFill>
        <p:spPr>
          <a:xfrm>
            <a:off x="304920" y="1371600"/>
            <a:ext cx="78483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43:30Z</dcterms:created>
  <dc:creator>CUSD220</dc:creator>
  <dc:description/>
  <dc:language>en-US</dc:language>
  <cp:lastModifiedBy>Eiring</cp:lastModifiedBy>
  <dcterms:modified xsi:type="dcterms:W3CDTF">2012-01-13T01:38:36Z</dcterms:modified>
  <cp:revision>7</cp:revision>
  <dc:subject/>
  <dc:title>Slide 1</dc:title>
</cp:coreProperties>
</file>